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F3E-D6A0-412A-B383-B90408FB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B5E-E30C-4B15-A8B2-8D6E571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8EF-3831-4EDE-9371-CE3CA5C7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943-5B7B-429C-93D8-BBA06CC2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1E26-56FC-4250-B767-B965C53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1743-17A6-4CE5-9957-BABAB65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48CD-4A22-461D-8DED-F8971DD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86F3-0794-47E0-A900-A682479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1E89-E2B0-4B14-938C-B3432976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AD3F-CDD1-48AF-BC87-CE06828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F102-6C16-41E5-A319-72A4D10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898-3227-45FB-811F-8E84DB83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74FE-8A4A-46DB-9D2F-E4AD4FA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50AD-1AFD-429A-987D-5DAFBB5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8122-5889-4A88-BD78-7C5D3FA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A5E4-A962-4FDF-BE9D-8C2743A8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2C0D-3B95-4D02-AC58-7BD9CFFD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4F6-EAF0-4CAB-9509-2CB3B48C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942-96CA-43B8-A997-B282C94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967-55D6-4F73-BA1C-6CAC7B9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B4B-8826-4A49-80B8-30A1748E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654-0119-48F9-BBAB-4A4A2F7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912-C52E-4742-93B7-9FFB24C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9E4-85EC-4F69-81BE-3EC2795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FC83-B804-4142-8E00-EAD968EE4BE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E41B-658C-40DF-B06B-E694E582D29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egamatma.pl/uczniowie/powtorka-z-podstawowki/ulamki/ulamki-zwykle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egamatma.pl/uczniowie/powtorka-z-podstawowki/ulamki/ulamki-zwyk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78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738648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stawowe wiadomośc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Rozszerzając lub skracając ułamek nie zmieniamy jego wartości. Dzięki tej własności operacje rozszerzan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i skracania ułamka często wykorzystujemy w działaniach na ułamkach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ażdy ułamek można rozszerzyć, ale nie każdy da się skróci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50920" y="765000"/>
            <a:ext cx="367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MIĘT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2680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takie ułamki, których nie da się skrócić (uprościć), takie ułamki nazywamy nieskracalnymi. Ułamki są nieskracalne, wtedy gdy licznik     i mianownik nie mają takich samych dzielników większych od liczby 1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łowo ułamek pochodzi od wywodząceg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ię z łaciny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fractio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, przekładu z arabskiego                   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kasr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 - złamany, a zatem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f1311"/>
                </a:solidFill>
                <a:latin typeface="Arial"/>
              </a:rPr>
              <a:t>ułamki to liczby złama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Ogólne pojęcie stosunku dwóch liczb zostało wprowadzone przez pitagorejczyków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w VI w. p.n.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oprzedzający ich Babilończycy i Egipcjanie używali jedynie ułamków  z licznikiem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Współczesny sposób zapisu ułamków pochodzi od matematyków hinduskich, zapisywali oni licznik i mianownik, nie używając jednak kreski rozdzielającej. Dodanie kreski rozdzielającej zawdzięczamy Arabom tłumaczącym dzieła Hindusów. W Europie jako pierwszy w swoich pracach znane do dziś oznaczenie ułamków publikuje włoski matematyk Fibonacci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00240" y="237600"/>
            <a:ext cx="42544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ek zwykły to  każde wyrażenie postac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dzie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jest w liczniku (nad kreską ułamkową),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st w mianowniku (pod kreską ułamkową), liczby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uszą być całkowite oraz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óżne od zer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59280" y="2565360"/>
                <a:ext cx="64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Mianownik wskazuje, na ile jednakowych części podzielono figurę,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 licznik - ile tych części zabrano (zamalowano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Pamiętaj! Aby odczytać jaka część figury została zamalowana, należy podzielić figurę na RÓWNE CZĘŚCI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1080" cy="171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5400720" cy="18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, w których licznik jest mniejszy od mianownika, to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ki właściw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Przypominam, że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one mniejsze od 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8360" y="436572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u&amp;lstrok;amek, jeden, &amp;cacute;wier&amp;cacute;"/>
          <p:cNvPicPr/>
          <p:nvPr/>
        </p:nvPicPr>
        <p:blipFill>
          <a:blip r:embed="rId2"/>
          <a:stretch/>
        </p:blipFill>
        <p:spPr>
          <a:xfrm>
            <a:off x="684360" y="5229360"/>
            <a:ext cx="142848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rzy, &amp;cacute;wier&amp;cacute;, ko&amp;zacute;l&amp;eogon;"/>
          <p:cNvPicPr/>
          <p:nvPr/>
        </p:nvPicPr>
        <p:blipFill>
          <a:blip r:embed="rId3"/>
          <a:stretch/>
        </p:blipFill>
        <p:spPr>
          <a:xfrm>
            <a:off x="5796000" y="3645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&amp;cacute;wier&amp;cacute;, ko&amp;zacute;l&amp;eogon;"/>
          <p:cNvPicPr/>
          <p:nvPr/>
        </p:nvPicPr>
        <p:blipFill>
          <a:blip r:embed="rId4"/>
          <a:stretch/>
        </p:blipFill>
        <p:spPr>
          <a:xfrm>
            <a:off x="826920" y="386064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348000" y="3357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&amp;lstrok;amek, trzy, &amp;cacute;wierci"/>
          <p:cNvPicPr/>
          <p:nvPr/>
        </p:nvPicPr>
        <p:blipFill>
          <a:blip r:embed="rId6"/>
          <a:stretch/>
        </p:blipFill>
        <p:spPr>
          <a:xfrm>
            <a:off x="5651640" y="5084640"/>
            <a:ext cx="142848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ek niewłaściw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to taki ułamek, w którym licznik jest większy od mianownika lub równy mianownikowi. Ułamki niewłaściwe są większe lub równe 1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1                 =11              =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92720" y="4653000"/>
                <a:ext cx="51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4653000"/>
                <a:ext cx="549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1280" y="4581360"/>
                <a:ext cx="5652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60" y="3898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60" y="105480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00720" y="4653000"/>
                <a:ext cx="52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 niewłaściwe przedstawione           w postaci całości i ułamka właściwego nazywamy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czbami mieszany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7200720" cy="12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zszerzanie i skracanie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rozszerzyć mnożąc licznik i mianownik ułamka przez tę samą liczbę całkowitą różną od zera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=               =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skrócić dzieląc licznik              i mianownik ułamka przez ich wspólny dzielnik dodatni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=                 =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24360" y="2852640"/>
                <a:ext cx="4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427640" y="5084640"/>
                <a:ext cx="79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84640"/>
                <a:ext cx="393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03640" y="2852640"/>
                <a:ext cx="420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48000" y="5084640"/>
                <a:ext cx="419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2852640"/>
                <a:ext cx="684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9:49:19Z</dcterms:created>
  <dc:creator>Matematyka</dc:creator>
  <dc:description/>
  <dc:language>en-US</dc:language>
  <cp:lastModifiedBy>x</cp:lastModifiedBy>
  <dcterms:modified xsi:type="dcterms:W3CDTF">2013-04-16T15:29:43Z</dcterms:modified>
  <cp:revision>37</cp:revision>
  <dc:subject/>
  <dc:title>Mianownik wskazuje, na ile jednakowych części podzielono figurę,  a licznik - ile tych części zabrano (zamalowano)           Pamiętaj! Aby odczytać jaka część figury została zamalowana, należy podzielić figurę na RÓWNE CZĘŚCI.</dc:title>
</cp:coreProperties>
</file>